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339-1597-4FE7-95D8-77BADAFC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564-B14E-416C-B8FC-FCCA1FD4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50DE-C788-4A7A-9C51-349178FB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CF7-5973-4F40-92E0-D1908165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9D78-1549-4300-B39D-E194B527E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954D-D040-414F-90B8-58C461BD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CA22-1AC4-4963-B9BB-7129F7D3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3799-0958-41A3-964C-507E1016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6479-FEF1-465E-A9ED-A116451D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7268-A2B9-422A-98BF-370EB094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252-FC5E-4D3C-9157-2A56F5D9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416-CA99-426D-8FE6-0016D67F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EB59-0D23-477E-89BE-4E73DB9B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28FB-9246-469D-81F7-28D4F8F3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554A-D066-4C56-9A3B-A0808E3C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A7DA-EA49-45BF-900B-F5AD52D45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F289-2DCD-4963-995C-3D5FF6E9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D2784-6124-4D8F-8D38-A8684427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F307B-AD22-4378-90FA-99043909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072A0-822D-444A-80EE-5F680A01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232B-660D-42C3-AEC3-D737EB2C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917B4-0335-4219-B9DB-79FE48A4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48A-45CE-42DA-BD5F-7F3D47D8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57350-9F8E-439C-AA9B-0B72FB25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FA6C-C9C5-457C-B83F-801FD30C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4592B-3DAD-450E-AB3D-7F3A01D6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928DB-C1A7-45AC-960A-BB1326FB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FB152-F25C-4139-9E66-F9FDD857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9CD5-8696-4A88-9C5B-BBF949F3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B17A6-2E1C-4834-A662-84F1B380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E1D3-B0A9-499F-A638-E15472AD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6F21-0C88-4C6C-8E75-44C29104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A68A-8FFC-417A-8104-C02BBCC1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5E7-4C09-44F5-8493-5C2FC771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549D-A566-41F4-BB20-F304B3CA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BC9A-2ECF-4B7B-840D-BC690497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3C3E4-6C66-4281-88E5-683E7AB69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7C696-A9DD-4FBA-99E0-9816DD4D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3AF9-7978-4787-8496-B0F197C3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C0569-A614-4DA1-B734-B64C39E8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E5D59-B7D3-421A-9469-EAD6D51E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ACD9C-0DCB-496F-8C0A-ACEE77FA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C3D3-4F2E-47B3-96EB-7FE6902A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D23A-ED39-4CDD-A41E-A0AE2CF0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B362-412A-475A-8E61-A16CB8D0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867C5-C8E4-4C45-811F-A126B4C1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05EB6-6554-4A1E-B5C7-CEB5280E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B5C74-0299-4A7C-8FED-B3B5C5351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4BEE-82FE-40EE-96B0-CB1BE317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74230-0BBF-46EC-BAB3-A132C7E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CB390-E1B0-4BDF-BC0C-52FBAF2C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60EC-6CAD-484B-8DDB-16F580F3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DF44E-8C35-4EBF-BE50-96755EA7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D08F4-C8CB-49E8-BDCC-2D6BA948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B84EA-E892-4A20-8F54-6D80F252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0C08-BE65-420A-A8F0-5F4B5F37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EEA17-FADB-491B-9652-CB9C2CB9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6855-CC43-4D0E-941B-1CFAD000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55014-78B7-45B7-9399-FD76DAF7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8E05A-88B9-407E-B21C-C50B7FA9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37210-8DB9-4B69-8EA1-C0CFA846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5AD4C-2196-4283-9E43-08F6EACA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A419A-6E0A-418B-92B1-68005602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39C2A-A072-40A4-A9B0-82D8242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40BD5-3E03-4405-8719-12B52F50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1201-A5C7-4141-89BA-D5257EDC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7D0-C830-43DF-9495-03BABC7D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9D202-97E7-4CA4-991F-4A71E789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D4431-FF20-4E21-9258-27269ECB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66B1A-2554-4E39-B262-F3E657E5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BB28-3325-4040-B5BB-ED1B96E7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624-5200-481A-B133-A6F5393F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7805-BE3B-405F-A71F-D0B71C02152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31E8-2BFE-47C5-B8D0-757FDFEC35C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841D-DCFF-446C-AAEE-CCD0D4C00CC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42D5-0F92-4211-85F2-0B577411CF49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1CE8-5128-4892-BFA3-0D2860D4C6C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7298280" y="6353640"/>
            <a:ext cx="1347480" cy="323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C0E9-90C4-42B4-851F-917E328DF4C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1096920"/>
            <a:ext cx="8364600" cy="1432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ПОДГОТОВКА ДОУ К УЧАСТИЮ В КОНКУРСЕ НА «ЛУЧШЕЕ ОУ»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4920" y="515736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17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.09.2012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КУПРИЯНОВА Г.В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6400800" y="31240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НСТРУМЕН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Самооценка</a:t>
            </a: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Swot-analiz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документов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результатов и достижений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сильных и слабых сторон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тоды изучения общественного мнения, удовлетворенности участников образовательного процесс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……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4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6"/>
          <p:cNvSpPr/>
          <p:nvPr/>
        </p:nvSpPr>
        <p:spPr>
          <a:xfrm>
            <a:off x="5940360" y="24004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8229600" y="335268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3794"/>
                </a:moveTo>
                <a:lnTo>
                  <a:pt x="35773" y="10800"/>
                </a:lnTo>
                <a:lnTo>
                  <a:pt x="217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7772400" y="38862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8435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ЦЕЛЬ ПРОВЕДЕНИЯ САМООЦЕНК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230120" y="1700280"/>
            <a:ext cx="77929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олучить представление о результатах и процессах в образовательном учреждении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Определить точки приложения усилий коллектива (меры по улучшению ситуации)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АМООЦЕНКА В Д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Адаптированная школьная модель самооценки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амооценка по Европейской модели качества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лидерство, персонал, политика и стратегия, партнерство и ресурсы, процессы, результаты, результаты потребителей,  результаты общества и результаты  основной деятельности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амооценка на основе анализа сильных и слабых сторон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щенная методика самооцен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ШКОЛЬНАЯ МОДЕЛЬ САМООЦЕНК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1 вопросов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нутри каждого вопроса – 4 части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Оценка в баллах от 1 до 4 (система показателей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Почему Вы так считаете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аиболее улучшилос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еобходимо улучшать и какие действия для этого надо предпринят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7380360" y="22050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СНОВНЫ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30120" y="1052280"/>
            <a:ext cx="77929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Выводы необходимо доказательно обоснова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Фокус описания и оценивания – как это влияет на результаты ученик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раткость (объем 10 стр.; не включать очевидно доступные данные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кала самооценки от 1 (очень мало) до 4 (превосходно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СПРАВКА-ИНФОРМ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981000"/>
            <a:ext cx="8077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звание ОУ, адрес и особенност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иссия, цели, приоритеты и механизмы их реализаци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Характеристика образовательной среды ОУ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неджмент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фессионализм педколлектива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заимодействие ОУ с соцпартнерами, родителями, органами власти, СМ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ы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курентные преимущества (2-3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национальный соста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ложный социальный контекст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ради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онтингент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состава семей, окруж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Фотоматериалы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чет по самооценк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НАЗВАНИЕ ОУ, АДРЕС, ОСОБЕННОС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3780000" y="32846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4360" y="1752120"/>
            <a:ext cx="3200400" cy="371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Мисс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Цель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ные направления в деятельн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чень программ, проектов, планов, обеспечивающих их реализацию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148360" y="1700280"/>
            <a:ext cx="3200400" cy="37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Выписка из Устава, Программа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ект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грамм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лан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Фотоматериал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Описание реализации программы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МИССИЯ, ЦЕЛИ, ПРИОРИТЕТЫ И МЕХАНИЗМЫ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890880" y="2492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разовательная модел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нципы деятельности и це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еспечение образовательног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43240" y="1904760"/>
            <a:ext cx="3871800" cy="464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писание ОМ, схема, рисунок; фрагмент ООП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окументы, фиксирующие (фрагмент Устава, ООП …, рабочая программа, программа воспитания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спользуемые технологии, характеристика условий обучения, данные о психологическом климате в ОУ, фотоматериал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РАЗОВАТЕЛЬНАЯ СРЕДА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4343400" y="1752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управл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ы в управлени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елегирование полномочий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Эффективность управления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723920" y="1052280"/>
            <a:ext cx="4100760" cy="3816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хема, регламент, «Положение об УС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вленческие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кументы наделяющие полномочиями в принятии управленческих решений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, данные опроса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ЕНЕДЖМЕН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3809880" y="400536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ИЗА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Object 7" descr=""/>
          <p:cNvPicPr/>
          <p:nvPr/>
        </p:nvPicPr>
        <p:blipFill>
          <a:blip r:embed="rId1"/>
          <a:stretch/>
        </p:blipFill>
        <p:spPr>
          <a:xfrm>
            <a:off x="249120" y="0"/>
            <a:ext cx="3462480" cy="2895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37644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8" descr="C:\Program Files\Common Files\Microsoft Shared\Clipart\cagcat50\PE03254_.wmf"/>
          <p:cNvPicPr/>
          <p:nvPr/>
        </p:nvPicPr>
        <p:blipFill>
          <a:blip r:embed="rId2"/>
          <a:stretch/>
        </p:blipFill>
        <p:spPr>
          <a:xfrm>
            <a:off x="5486400" y="21337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304920" y="3048120"/>
            <a:ext cx="4495680" cy="350496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ивность и эффекти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 О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рытость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ффективность управления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ияние на развитие МС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Практическая значим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/Качество презент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ы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истема работы с кадрам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адров (таблицы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ая политика, программа (план) развития кадр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чет о самооценке, динамика роста профессионализм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ФЕССИОНАЛИЗМ КОЛЛЕКТИВ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56400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собенности взаимодейств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работы (приоритеты, формы …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труктур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говора, планы. Программы,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анные изучения отношения к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йтинг ОУ в МСО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убликации в СМИ, отзыв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70836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чебные достижения в разных сферах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Психическое, физическое состояние, здоровь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ровень толерантност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анные мониторинг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Таблицы, график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Фотоматериалы, грамоты, дипломы и т.п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ЕЗУЛЬТА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343400" y="2514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ПРИЛОЖЕНИЯ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1. ПРОГРАММА РАЗВИТИЯ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ханизм целостного развития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правленческий инструментарий, направленный на разработку и реализации стратегических целей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Нормативная модель деятельности субъектов по переводу ОУ в новое качественное состоя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окумент, направленный на решение стратегических задач, социального заказа на образова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ЩИ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итерии оценки стратегических документов (А.М. Моисеев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исьмо ДО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етодические рекоменда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564000" y="155736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5003640" y="2921040"/>
            <a:ext cx="792360" cy="288720"/>
          </a:xfrm>
          <a:custGeom>
            <a:avLst/>
            <a:gdLst>
              <a:gd name="textAreaLeft" fmla="*/ 18720 w 792360"/>
              <a:gd name="textAreaRight" fmla="*/ 773640 w 792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32" h="21600">
                <a:moveTo>
                  <a:pt x="0" y="0"/>
                </a:moveTo>
                <a:lnTo>
                  <a:pt x="59232" y="0"/>
                </a:lnTo>
                <a:lnTo>
                  <a:pt x="59232" y="21600"/>
                </a:lnTo>
                <a:lnTo>
                  <a:pt x="0" y="21600"/>
                </a:lnTo>
                <a:close/>
              </a:path>
              <a:path fill="lightenLess" w="59232" h="21600">
                <a:moveTo>
                  <a:pt x="0" y="0"/>
                </a:moveTo>
                <a:lnTo>
                  <a:pt x="59232" y="0"/>
                </a:lnTo>
                <a:lnTo>
                  <a:pt x="57832" y="1400"/>
                </a:lnTo>
                <a:lnTo>
                  <a:pt x="1400" y="1400"/>
                </a:lnTo>
                <a:close/>
              </a:path>
              <a:path fill="darken" w="59232" h="21600">
                <a:moveTo>
                  <a:pt x="59232" y="0"/>
                </a:moveTo>
                <a:lnTo>
                  <a:pt x="59232" y="21600"/>
                </a:lnTo>
                <a:lnTo>
                  <a:pt x="57832" y="20200"/>
                </a:lnTo>
                <a:lnTo>
                  <a:pt x="57832" y="1400"/>
                </a:lnTo>
                <a:close/>
              </a:path>
              <a:path fill="darkenLess" w="59232" h="21600">
                <a:moveTo>
                  <a:pt x="59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32" y="20200"/>
                </a:lnTo>
                <a:close/>
              </a:path>
              <a:path fill="lighten" w="59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32" h="21600">
                <a:moveTo>
                  <a:pt x="22609" y="3794"/>
                </a:moveTo>
                <a:lnTo>
                  <a:pt x="36622" y="10800"/>
                </a:lnTo>
                <a:lnTo>
                  <a:pt x="22609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5724360" y="3860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3794"/>
                </a:moveTo>
                <a:lnTo>
                  <a:pt x="33859" y="10800"/>
                </a:lnTo>
                <a:lnTo>
                  <a:pt x="19846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ТРЕБОВАНИЯ К ПРОГРАММА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туаль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тодическая разработан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гностичность, реалистич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ациональность, направленность на достижение максимального результат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тролируемость, чувствительность к сбоям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Целос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ив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ПР ОТВЕЧАЕТ НА ТРИ ГЛАВНЫХ ВОПРОСА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3640" y="1981080"/>
            <a:ext cx="859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его достигла наше ОУ сегодня, каковы его сильные и слабые стороны, достижения и проблемы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ой мы хотим видеть наше ОУ и его выпускников через два-три года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то и как мы сделаем, чтобы ОУ успешно перешло от своего сегодняшнего состояния к желаемому будущему?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ГРАММА РАЗВИТИЯ – ПРОГРАММА ИЗМЕНЕН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мысл изменений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остижение нового, востребованного временем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здание условий для достижения нового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чение позиции ОУ в образовательном пространств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р. 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2. ОПИСАНИЕ РЕАЛИЗАЦИИ ПРОГРАММЫ РАЗВИТ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2240" y="1267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Целевая направленность программы и критерии успеха (планируемые целевые показател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езультаты (промежуточные, итоговые) и свидетельства их достиже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воды и перспектив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22240" y="1600200"/>
            <a:ext cx="3200400" cy="32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Эксперт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00520" y="1628280"/>
            <a:ext cx="3200400" cy="3181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ллектив Д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3492360" y="40464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C:\Program Files\Common Files\Microsoft Shared\Clipart\cagcat50\PE01460_.wmf"/>
          <p:cNvPicPr/>
          <p:nvPr/>
        </p:nvPicPr>
        <p:blipFill>
          <a:blip r:embed="rId2"/>
          <a:stretch/>
        </p:blipFill>
        <p:spPr>
          <a:xfrm>
            <a:off x="533520" y="2514600"/>
            <a:ext cx="2790720" cy="3087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C:\Program Files\Common Files\Microsoft Shared\Clipart\cagcat50\PE01561_.wmf"/>
          <p:cNvPicPr/>
          <p:nvPr/>
        </p:nvPicPr>
        <p:blipFill>
          <a:blip r:embed="rId3"/>
          <a:stretch/>
        </p:blipFill>
        <p:spPr>
          <a:xfrm>
            <a:off x="5334120" y="2895480"/>
            <a:ext cx="3809880" cy="24386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1066680" y="5943600"/>
            <a:ext cx="358164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ожидает увиде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257800" y="5943600"/>
            <a:ext cx="358128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хотят показа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Стратегическая цель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Выводы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2362320"/>
          <a:ext cx="8610480" cy="3581280"/>
        </p:xfrm>
        <a:graphic>
          <a:graphicData uri="http://schemas.openxmlformats.org/drawingml/2006/table">
            <a:tbl>
              <a:tblPr/>
              <a:tblGrid>
                <a:gridCol w="1371600"/>
                <a:gridCol w="1752480"/>
                <a:gridCol w="1524240"/>
                <a:gridCol w="1828800"/>
                <a:gridCol w="21333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 /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иде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80640" y="304920"/>
            <a:ext cx="8163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59" name="Object 5"/>
          <p:cNvGraphicFramePr/>
          <p:nvPr/>
        </p:nvGraphicFramePr>
        <p:xfrm>
          <a:off x="357120" y="990720"/>
          <a:ext cx="271296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990720"/>
                    <a:ext cx="271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4191120" y="762120"/>
            <a:ext cx="495288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"/>
          <p:cNvPicPr/>
          <p:nvPr/>
        </p:nvPicPr>
        <p:blipFill>
          <a:blip r:embed="rId4"/>
          <a:srcRect l="0" t="17204" r="0" b="0"/>
          <a:stretch/>
        </p:blipFill>
        <p:spPr>
          <a:xfrm>
            <a:off x="304920" y="3886200"/>
            <a:ext cx="7921440" cy="27320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8"/>
          <p:cNvSpPr/>
          <p:nvPr/>
        </p:nvSpPr>
        <p:spPr>
          <a:xfrm>
            <a:off x="533520" y="3429000"/>
            <a:ext cx="8229600" cy="3049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Verdana"/>
              </a:rPr>
              <a:t>Количество обучающихся (%),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не подтвердивших освоение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716000" y="1052280"/>
            <a:ext cx="397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Команда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15 минут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7720" y="249228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 деятельности образовательного учрежд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информирование о реализации программы развит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 CYR"/>
              </a:rPr>
              <a:t>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 образовательных программ и достижений детей и педагогического коллектив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ЕЗЕНТ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ЦЕНАР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едставление ОУ и команды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ши достижения 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к мы их достигли   (образовательные программы, технологии 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спективы (стратегия. Ее реализация и планы на будущее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АЧЕСТВО ПРЕЗЕНТАЦ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андный дух образовательного учрежд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публичной презентаци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льность выступл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ски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презентации представленным материалам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ПАСИБО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72" name="Picture 3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2971800" y="2743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 можно больше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пользуем старые заготов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цент на 1 вопросе (успех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збыточность материалов, дублирование («корзина»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гнорирование правил, отсутствие согласова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е остается за кадром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У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564000" y="62064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22240" y="1099800"/>
            <a:ext cx="75218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Четкость, конкре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труктурированность (удобно работать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нструктивная целостность описания опыта (согласованность частей, обоснованность включения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Представленность материалов по всем позициям (критериям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Достаточность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168880" y="0"/>
            <a:ext cx="3975120" cy="1447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755640" y="5516640"/>
            <a:ext cx="8001000" cy="60948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ждение о том, что ОУ лучш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Что значит лучшее образовательное учреждение?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7543800" y="2286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ЛУЧШЕЕ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12500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Лучше других справляется с заданием (имеет высокие результаты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озданы условия для самореализации субъектов (насыщенная среда для жизнедеятельност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мфортная обстановка, сотрудничество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уководитель – лидер, высокий профуровень педколлектив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сокий рейтинг ОУ в МСО (имидж «лучшее ОУ»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Открытость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 …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ОНКУРСНАЯ ДОКУМЕНТ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981000"/>
            <a:ext cx="8337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зая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на участие в конкурс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чёт о самооцен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пра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информаци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о результатах и опыте работ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 приложения и дополнительные материалы к справке-информации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программ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развит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 ОУ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писание реализации программы развит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материалы, раскрывающие инновационный опыт рабо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*п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ор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убликаций о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, ф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ограф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иаграммы, графики, сх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4303800" y="365040"/>
            <a:ext cx="558720" cy="549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821880" y="1100160"/>
            <a:ext cx="77821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аги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зучение положения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бор материалов и их оценк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пределение дефицитов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одготовка конкурсной документаци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77724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6:43:21Z</dcterms:created>
  <dc:creator>Аноним</dc:creator>
  <dc:description/>
  <dc:language>en-US</dc:language>
  <cp:lastModifiedBy>Галина Валентиновна Куприянова</cp:lastModifiedBy>
  <dcterms:modified xsi:type="dcterms:W3CDTF">2014-09-17T07:36:53Z</dcterms:modified>
  <cp:revision>18</cp:revision>
  <dc:subject/>
  <dc:title>Подготовка ОУ к участию в конкурсе на «Лучшее ОУ» </dc:title>
</cp:coreProperties>
</file>